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07506"/>
        <c:axId val="33270548"/>
      </c:barChart>
      <c:catAx>
        <c:axId val="26507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70548"/>
        <c:crosses val="autoZero"/>
        <c:auto val="1"/>
        <c:lblAlgn val="ctr"/>
        <c:lblOffset val="100"/>
        <c:noMultiLvlLbl val="0"/>
      </c:catAx>
      <c:valAx>
        <c:axId val="33270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07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DD1-07FA-4032-9AA9-FD51DF0F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ACA-062B-453A-9CE8-1B0EDB8E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62A-117C-463E-A3AA-D6AFA088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701-DC73-4C68-A3A5-E732D1DA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0AA9-85C7-42B9-89FE-BF090A5B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829-1E6F-45BA-A0BA-6E91594B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1FA-8CB2-4B1B-A4CD-22F5881E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7BE8-B60D-48DC-A05C-19AAFF18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61E-8591-4A6A-8138-21591C84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D74-5CAD-498B-9BB0-BC8123DD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20E-D83F-4B9A-8FA1-0FA6ADF7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49B-17A9-45D5-9A39-4AA541E7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4E5DA-9C84-42BA-B0BA-EF96D00F63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