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172429"/>
        <c:axId val="3438523"/>
      </c:barChart>
      <c:catAx>
        <c:axId val="791724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38523"/>
        <c:crosses val="autoZero"/>
        <c:auto val="1"/>
        <c:lblAlgn val="ctr"/>
        <c:lblOffset val="100"/>
        <c:noMultiLvlLbl val="0"/>
      </c:catAx>
      <c:valAx>
        <c:axId val="34385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1724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8861-8933-430C-B329-9177BC550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5BB5-8A21-4301-92AF-71EDC9DBE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904C-4A9E-422B-8333-3D38F7DDD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2156-FC16-46C5-8C34-B31A0B4A0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635E-961F-480C-A9B4-F69474646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8E5F-C6DA-4EA9-BC52-34AC2B81D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ACFC-E337-4ED9-8627-0E39EFADD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23E4-3184-4A76-A113-1E586C67D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5F01-1179-4AD4-B5EE-CD1525CDD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1AD1-1A30-43F8-AD46-6166BFEEC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5C16-B6A6-4F92-88F5-F84835671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6CF5-0301-407A-8A39-0C2333408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3EA9D2-EAE3-4708-938A-CA966E38C77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