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41928"/>
        <c:axId val="8101346"/>
      </c:barChart>
      <c:catAx>
        <c:axId val="23741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1346"/>
        <c:crosses val="autoZero"/>
        <c:auto val="1"/>
        <c:lblAlgn val="ctr"/>
        <c:lblOffset val="100"/>
        <c:noMultiLvlLbl val="0"/>
      </c:catAx>
      <c:valAx>
        <c:axId val="8101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41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989-1074-492D-80A6-8D1026F3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5C4-FB6F-43B2-928E-1DB49258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304-AED8-4ACA-AFB9-E04DF80E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860-4ECD-44AA-B410-1AD067CB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070-C350-4119-915B-8F452CDA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3EC-3470-4592-9EB2-92909B79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A8B-3D4E-4BD8-982B-B5333948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42A-BECD-4422-8542-5B357A18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A3B-B3EB-4EED-8E36-E8E30B15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07E-F84E-4870-98B3-3A2359E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86F-8EFE-4C61-8845-E8C22251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6A7-637D-4CBB-B72C-E6247ABB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D61B2-148C-4197-B9DB-598BB2029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