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59052"/>
        <c:axId val="10893630"/>
      </c:barChart>
      <c:catAx>
        <c:axId val="96159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93630"/>
        <c:crosses val="autoZero"/>
        <c:auto val="1"/>
        <c:lblAlgn val="ctr"/>
        <c:lblOffset val="100"/>
        <c:noMultiLvlLbl val="0"/>
      </c:catAx>
      <c:valAx>
        <c:axId val="10893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59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A64-844D-4805-B660-D942006E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4EB-BABC-4F2B-8FE9-043AC944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52A-7E7C-461F-ACB2-E3D32A28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4A3-281D-45D1-821E-A7DE3EC3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573-E5E8-4EBF-94E3-73751EB8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13B-8531-4888-9E5C-FD0C4DFF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E22-512B-4369-A94F-A37361D3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1CE-91B0-494D-BC5A-33ED6B2B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B18-6AB4-496A-965C-754D3DFA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613-AD49-457C-9106-0E16D72A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88E-7841-4807-A3BA-3915531E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9D5-2A02-4D36-8777-51586879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836CE-24D9-4071-96A9-44924C6E0F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