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25578"/>
        <c:axId val="57977147"/>
      </c:barChart>
      <c:catAx>
        <c:axId val="52225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77147"/>
        <c:crosses val="autoZero"/>
        <c:auto val="1"/>
        <c:lblAlgn val="ctr"/>
        <c:lblOffset val="100"/>
        <c:noMultiLvlLbl val="0"/>
      </c:catAx>
      <c:valAx>
        <c:axId val="57977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25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5E8-BBB4-455E-AAF7-B2FF1787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9BD-4E6E-415B-A913-B2C972C2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B0A-CF95-4F5D-8A74-5A67F8BE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8C8-07D9-4B71-AA99-BFDD42D7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3C4-A2F2-4A9E-B95E-A4C0AA5A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E2D-FBAC-4756-A501-43A3AA33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EE5-C23A-4345-915B-E0A8837F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084-F63C-45B7-9728-319D6BC1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3F7-AD75-492C-B754-C2923692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C4A-4236-429D-9417-0E2E98B7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2DC-012B-4BDC-B4BF-684F36F0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FED-1B14-4861-9F0D-5F3376BB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C7FDB-EF60-45C0-918E-701646188B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