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99805"/>
        <c:axId val="31511460"/>
      </c:barChart>
      <c:catAx>
        <c:axId val="18699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11460"/>
        <c:crosses val="autoZero"/>
        <c:auto val="1"/>
        <c:lblAlgn val="ctr"/>
        <c:lblOffset val="100"/>
        <c:noMultiLvlLbl val="0"/>
      </c:catAx>
      <c:valAx>
        <c:axId val="31511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99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C728-F8F4-4A56-98DE-4C620AD5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B2D-E801-442F-A3C1-D1C7E903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125-63F5-4C21-9DB0-51A1824B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8C4A-9543-4D12-B600-2E4EC842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6BB-C7F5-4502-899B-7BC682D1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8B6-825C-4229-A4BF-C6998AFC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A62-62D7-4FE1-AC6F-E9FA5045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62E1-0715-4168-9536-4C9E4150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93D-A0CF-4BFA-9025-CDE69FD1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E0F-6A5C-49E6-88CD-BCAA8D9B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3F6B-AC53-4A79-90F3-568DD247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C20-B7D2-421D-831C-7C0F7A08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F6206-E755-4DE1-A8DA-9B5ED248C7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