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401280"/>
        <c:axId val="51757837"/>
      </c:barChart>
      <c:catAx>
        <c:axId val="894012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757837"/>
        <c:crosses val="autoZero"/>
        <c:auto val="1"/>
        <c:lblAlgn val="ctr"/>
        <c:lblOffset val="100"/>
        <c:noMultiLvlLbl val="0"/>
      </c:catAx>
      <c:valAx>
        <c:axId val="517578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4012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7577-73CB-45F1-85C5-2CA3494D8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6E1A-58BF-4245-A01F-43AFBB420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0D42-E2EB-41AB-9544-BD15CBA4D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CF54-5939-4DDF-B5E9-90E63F61B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40FA-9746-4536-9956-B26EF53E4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3121-8A94-43B8-81FF-55174F089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5CF6-516D-4C47-9324-AB714EA50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AA0B-5567-4328-985C-C2C1BF628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2ACA-D64E-4C8E-B589-33FED5037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DB5C-049B-4E08-9586-677E85BA2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66AE-85CE-4110-B84B-837EB9640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9621-4FCE-4CAE-9610-EB99AEC6B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BB4822-1ACB-4CC1-836C-30F167F72B6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