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34866"/>
        <c:axId val="68227829"/>
      </c:barChart>
      <c:catAx>
        <c:axId val="55034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27829"/>
        <c:crosses val="autoZero"/>
        <c:auto val="1"/>
        <c:lblAlgn val="ctr"/>
        <c:lblOffset val="100"/>
        <c:noMultiLvlLbl val="0"/>
      </c:catAx>
      <c:valAx>
        <c:axId val="68227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34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9FE-CDA9-42EA-9A41-DCD550F6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026-3CFA-49A0-B8CC-2DF0F0C3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5C8-ECED-4BD0-8F16-2DB0644E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0BF-A7E4-44C2-804D-9D22FD2B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844-EE5C-4954-A24E-4718C1CC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E9D-38E3-4163-AF04-3B3483E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358-F648-4CCA-8279-38423483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957-ED8C-4EA1-9149-552F8B3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13A-3424-49F3-85F4-7A111A57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BD6-4B89-4A0B-9C23-1DC03CB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50B-32C7-4BC9-BA25-6207278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08A-488F-43F2-8DC3-D653CB0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DBE2F-7162-427A-845B-20E9F8A8A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