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06973"/>
        <c:axId val="91909885"/>
      </c:barChart>
      <c:catAx>
        <c:axId val="44906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09885"/>
        <c:crosses val="autoZero"/>
        <c:auto val="1"/>
        <c:lblAlgn val="ctr"/>
        <c:lblOffset val="100"/>
        <c:noMultiLvlLbl val="0"/>
      </c:catAx>
      <c:valAx>
        <c:axId val="91909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06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84A-3CFE-4D5C-B86F-4600D1B6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22C-CBBD-40FF-9832-522904C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2F5-3B93-49F5-9604-1C05A31B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730-8A18-4989-9122-6C40840D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2C7-2E26-40CA-8D1E-D3AC8452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4CE-3F81-49CD-88E4-A583EA1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27C-7303-4839-882C-9BE9469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D47-70EB-49A1-AA15-2976F8F3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047-6334-432E-98A8-26FEAA63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D50-6295-479D-9212-BD40A91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CC5-8859-42EC-8D01-5127BCC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00A-0F2A-4B0F-8567-0B608E0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1178F-71F8-427C-A68D-E95E5E6B9A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