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60973"/>
        <c:axId val="83344573"/>
      </c:barChart>
      <c:catAx>
        <c:axId val="646609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344573"/>
        <c:crosses val="autoZero"/>
        <c:auto val="1"/>
        <c:lblAlgn val="ctr"/>
        <c:lblOffset val="100"/>
        <c:noMultiLvlLbl val="0"/>
      </c:catAx>
      <c:valAx>
        <c:axId val="833445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609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8BDC-A1BA-4C89-906D-AC213619B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ACBF-F0ED-4168-A084-FD82D25B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5414-A780-451A-A9CC-18B3D7788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D99-1FAF-467F-B1A7-3D343EF6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3A7F-6153-4A14-B3DA-64ECDD7D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8B70-6015-4ECD-BD0D-AC2F08908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FB14-A51A-4DC8-B240-7D40D6DAB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509B-CA7B-478B-A22A-A5ACD8CD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9F1-FDA7-4C0C-BF2C-EB3072A3C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2E60D-BC8A-42EB-8502-DC69613C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8AED-F80E-4A04-9665-486616D42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B600-9D54-478A-8EE1-0F7EA6BA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95C1A-80ED-4B94-9ABA-575D00F1C9E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