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81862"/>
        <c:axId val="41980779"/>
      </c:barChart>
      <c:catAx>
        <c:axId val="58081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80779"/>
        <c:crosses val="autoZero"/>
        <c:auto val="1"/>
        <c:lblAlgn val="ctr"/>
        <c:lblOffset val="100"/>
        <c:noMultiLvlLbl val="0"/>
      </c:catAx>
      <c:valAx>
        <c:axId val="41980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81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FE8-C7F4-4DDB-807E-81F7B793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AEC-94D8-4276-A101-8DD9D37E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DA7-8413-4151-967D-DEB12B82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E7E-EAB6-4494-B158-3F98DE9C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461-A236-4968-A7BE-5DF2ED4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8F4-8438-420B-96B3-F35D3EC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3CA-5FA3-453E-A606-A3CB0D4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FF2-6B7E-4B6F-BF59-AE1CAE1B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41D-E622-48EB-AF2B-DAF9DE0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285-FB91-4A2D-A3B9-682CCF8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A36-5EA6-4AD6-AECD-5401A0C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32E-D3B6-4A58-AE43-DA1BF099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2557-72E3-48EA-8419-5FC33BD6B5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