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75204"/>
        <c:axId val="66754778"/>
      </c:barChart>
      <c:catAx>
        <c:axId val="20875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54778"/>
        <c:crosses val="autoZero"/>
        <c:auto val="1"/>
        <c:lblAlgn val="ctr"/>
        <c:lblOffset val="100"/>
        <c:noMultiLvlLbl val="0"/>
      </c:catAx>
      <c:valAx>
        <c:axId val="66754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75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D11-D68B-49BD-B778-F4EEC5AD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683-F9C3-4AAC-B8DB-65467063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399-D467-4D0A-B2E0-A0D13D0E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332-E1A8-487A-8013-24C0AF93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A1E-A538-44E7-AAF8-350624E3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383-DBEC-47D1-872D-E5F7441D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94A-3F9F-4B07-B0E2-FBD91080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751-0B27-44D0-8B33-5E84D2AC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0BB-560F-4816-9B59-62429540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423-AA4A-4DFF-9276-A0C663C3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29E-2ECA-448D-BA55-74837A37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88B-2BA7-4B86-A157-D0E74BBF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7F89F-4A53-4FE0-B885-F643C249B5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