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9630"/>
        <c:axId val="32757703"/>
      </c:barChart>
      <c:catAx>
        <c:axId val="8099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57703"/>
        <c:crosses val="autoZero"/>
        <c:auto val="1"/>
        <c:lblAlgn val="ctr"/>
        <c:lblOffset val="100"/>
        <c:noMultiLvlLbl val="0"/>
      </c:catAx>
      <c:valAx>
        <c:axId val="327577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9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ECA5-9D0E-421B-A99B-1435C5403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9B8B-D13B-46E5-9D5D-26941AF7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8F4-B27D-4AE1-8198-03A21266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0AC9C-20CA-44D8-B1EB-D6E06CAF3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9112-7EFF-4FEA-B5A4-AF5B6ABC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1A09-E665-4D54-B32E-C9F929070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DAAD-E9DD-4925-8BF2-97E6A120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01C8-DAF7-4951-AF29-85A94A4E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5F-571E-4413-9CB1-B10F2964A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F344-A548-4CE9-9497-F526B8AAA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3814-CFD4-462E-A25B-84DC77181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79C-6983-4A2F-A1AA-3E87D74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09DD5D-BFB9-462E-A218-187E07DECE8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