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72176"/>
        <c:axId val="20254685"/>
      </c:barChart>
      <c:catAx>
        <c:axId val="57372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54685"/>
        <c:crosses val="autoZero"/>
        <c:auto val="1"/>
        <c:lblAlgn val="ctr"/>
        <c:lblOffset val="100"/>
        <c:noMultiLvlLbl val="0"/>
      </c:catAx>
      <c:valAx>
        <c:axId val="20254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72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164-727E-4EA0-A494-B51C3E74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00B-06D5-4886-A264-23C53337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D5B-A36C-48DB-9930-86AD6450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2FA-5DB3-4386-B8E8-1A3A4896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840-8A2A-405B-8C8F-1CAC54DB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4E4-0400-4615-B815-223CC6E9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16A-15EF-4FC0-9A4A-167BAA4D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B89-5ADB-4B8B-85AB-82B74562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B43-F89C-4F51-B75A-F4759CF6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72A-3298-4E92-B028-5FAEB7C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0F7-012C-4490-9A94-6C5DEED1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C26-C5D4-4373-BDF1-CD1A01FC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32D72-8DDC-4AEF-A3FB-48A2BCFF0E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