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42224"/>
        <c:axId val="21650479"/>
      </c:barChart>
      <c:catAx>
        <c:axId val="38142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50479"/>
        <c:crosses val="autoZero"/>
        <c:auto val="1"/>
        <c:lblAlgn val="ctr"/>
        <c:lblOffset val="100"/>
        <c:noMultiLvlLbl val="0"/>
      </c:catAx>
      <c:valAx>
        <c:axId val="21650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42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98E-439B-4CED-B68A-CA6F28FD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0EE-A43E-4E1D-9790-A3F56898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F6D-BB08-44F9-9A66-ACD448CD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35D-2E04-45E8-8D61-894DD49C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5DD-7A57-40C0-9B8B-B12EBE7A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B1A-92A1-488E-9880-652DC306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DBF-7B12-4D97-84CC-94878295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2E1-646F-4086-8E7D-20B0532D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F42-4DBF-4F26-824C-90054163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C45-8875-44AB-9B79-1E7A347B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2A9-1283-4AE3-A849-3BF5930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F08-B989-49FC-9033-81D8D7E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952BA-1304-4E10-B361-1F64505853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