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939820"/>
        <c:axId val="5982578"/>
      </c:barChart>
      <c:catAx>
        <c:axId val="959398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82578"/>
        <c:crosses val="autoZero"/>
        <c:auto val="1"/>
        <c:lblAlgn val="ctr"/>
        <c:lblOffset val="100"/>
        <c:noMultiLvlLbl val="0"/>
      </c:catAx>
      <c:valAx>
        <c:axId val="59825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9398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4713-4244-4ADB-8173-B6AC0B017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98C0-19CE-4856-AB6B-364285ED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38B2-9EBF-45D7-AEB6-94E738FCE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560-F139-4F40-8CE8-3D850B734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F85-AACB-4569-8748-649C8311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0887C-2609-4FC1-867D-ADD39ED04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B66F-DF15-4853-BAEF-22399C5B3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A137-03DA-48AC-94A9-54BF76C82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665-5C5D-49DD-921C-D2CC2A9DB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3971-8844-452B-9D3B-17106923C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8608-5935-4FF5-8273-3423CB34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4F1C-4E42-4F9A-84DC-DCAA2176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2D68-31E9-41D5-B5F7-D13A2AC66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