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72789"/>
        <c:axId val="47468815"/>
      </c:barChart>
      <c:catAx>
        <c:axId val="18872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68815"/>
        <c:crosses val="autoZero"/>
        <c:auto val="1"/>
        <c:lblAlgn val="ctr"/>
        <c:lblOffset val="100"/>
        <c:noMultiLvlLbl val="0"/>
      </c:catAx>
      <c:valAx>
        <c:axId val="47468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2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6E6-90CD-4C08-AD6F-59E2983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005-472C-406E-9DFC-5039161A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A18-9C2C-4939-9D4B-B266346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96A-1494-4C0D-9477-DDA99FA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782-0D0B-4C56-826B-7767459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506-93F1-41BB-9254-A0EE25B4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FFF-F6F6-4053-B464-AA5DFC90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74B-E75C-4909-B4A0-5AD1FB61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A25-C245-4AB4-82B7-963C1253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8BB-8038-43FD-A5CA-2494BD8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0DC-6DB8-401D-8D94-D18BF38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709-E241-47FB-B8AA-39F81A5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76ADC-EC7E-4F9F-A1F6-A13BA59017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