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21116"/>
        <c:axId val="66778781"/>
      </c:barChart>
      <c:catAx>
        <c:axId val="168211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778781"/>
        <c:crosses val="autoZero"/>
        <c:auto val="1"/>
        <c:lblAlgn val="ctr"/>
        <c:lblOffset val="100"/>
        <c:noMultiLvlLbl val="0"/>
      </c:catAx>
      <c:valAx>
        <c:axId val="667787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211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E1F5-C4B3-4B87-B3FE-4AC6CFA76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2E48-E5D1-4C45-A0B4-B0CB32CB0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DDBB-5374-4ABB-AA52-B8A529EAA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840-B95F-404F-B93B-72C149947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CF50-4159-4114-87EE-0AB198C81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1708-7E12-4139-8ECE-78CA36C2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12AD-67B6-43D4-9537-1B7A790A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120B-E878-469C-B77B-DA0CDBA4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93B3-8075-4F5A-A250-5B0D31AA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8BB9-D3E3-4555-A6E1-CB26DC3FC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C404-31CF-4392-884D-FEE16D0F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85C2-E6DD-45ED-865E-927FDD6E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AE40F8-3FC0-459E-BED0-8045A127CD4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