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40526"/>
        <c:axId val="42079094"/>
      </c:barChart>
      <c:catAx>
        <c:axId val="42940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79094"/>
        <c:crosses val="autoZero"/>
        <c:auto val="1"/>
        <c:lblAlgn val="ctr"/>
        <c:lblOffset val="100"/>
        <c:noMultiLvlLbl val="0"/>
      </c:catAx>
      <c:valAx>
        <c:axId val="42079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40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1B7-9E0D-46A0-BB84-54CD93BA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4CF-1D77-4A7F-848A-9998B68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189-F967-4E1D-8D01-FAA51CFC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1EE-1ABE-4922-93B0-E6EA3140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D07-67BE-475B-8D18-DDB5BC98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080-8B6F-49C4-8DB6-B4C75E64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93A-225B-4EBF-8895-FFC9470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08B-69BF-487C-ACFA-0BCF957B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217-CFBF-43EB-88ED-495BBCCC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D48-1FA7-4EAE-AE51-FD67B12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36E-7057-4F40-BB1B-43CECB9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942-3A85-468A-9D09-AE968E6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90D91-DA6A-4E83-A947-A4D7D2DADE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