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012493"/>
        <c:axId val="41355732"/>
      </c:barChart>
      <c:catAx>
        <c:axId val="850124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355732"/>
        <c:crosses val="autoZero"/>
        <c:auto val="1"/>
        <c:lblAlgn val="ctr"/>
        <c:lblOffset val="100"/>
        <c:noMultiLvlLbl val="0"/>
      </c:catAx>
      <c:valAx>
        <c:axId val="413557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124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4457-B56B-4318-AB73-52BD0B40B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6F77-0DAE-4D8D-AD1C-2848FB25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6765-DF3E-49E5-AA2D-30CD493B2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A672-623A-4A13-9F65-C249B2BDC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6B3-F85E-409B-9B91-7D5774C0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41D5-7DC6-4954-87CB-3E0DD5EB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0A7B-11A9-46E2-97F9-D2276B43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4E3A-FB7D-4932-9BF1-5F1956E6D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BD1-F86F-4341-ABE0-8821106A9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3A78-3CF5-4CD4-8D79-367A92DE1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7506-283D-4B19-89B5-FF9C074C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59E0-D31A-435A-A7E6-18FC7D11C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C3AA49-4FAB-409A-9CE1-9C80CFF86DF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